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3D09-E06D-45AB-B295-AA4510609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26B8-BA7C-4620-B71C-EACF2AAA4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EDBE-64FE-470D-A8F5-7F7FF6BDB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C84F-E7AA-4FE0-89BC-A4CE55CC9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9568-53EE-409B-BE07-E877986B1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087E-C540-41AB-8119-E7F716C4A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149E-87F5-4CE4-A207-C410D884C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30F6-A7F2-4BAF-8E2B-A24353336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CAF2-3DE4-4E20-85F8-1C9058DC3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9FEF-22AB-4B2E-BED6-A5E9095B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9D58-50CC-48E1-BAAE-6D04901C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4BAC-CEDA-485A-8E19-78B49533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448F8-4094-4567-8687-996DC7617BA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Dumbartonshire Ex Presidents 1"/>
          <p:cNvPicPr/>
          <p:nvPr/>
        </p:nvPicPr>
        <p:blipFill>
          <a:blip r:embed="rId1"/>
          <a:stretch/>
        </p:blipFill>
        <p:spPr>
          <a:xfrm>
            <a:off x="8167680" y="571680"/>
            <a:ext cx="1133640" cy="1325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Dumbartonshire Ex Presidents 25th"/>
          <p:cNvPicPr/>
          <p:nvPr/>
        </p:nvPicPr>
        <p:blipFill>
          <a:blip r:embed="rId2"/>
          <a:stretch/>
        </p:blipFill>
        <p:spPr>
          <a:xfrm>
            <a:off x="309600" y="2214720"/>
            <a:ext cx="1352520" cy="15588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0" y="18334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YOKER                                       YOKER                                             YOKER                               YOKER  125TH                              YOKER  150TH                        DUMBARTON  EX  PRESIDENTS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3873600" y="0"/>
            <a:ext cx="143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24 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Yoker 150th"/>
          <p:cNvPicPr/>
          <p:nvPr/>
        </p:nvPicPr>
        <p:blipFill>
          <a:blip r:embed="rId3"/>
          <a:stretch/>
        </p:blipFill>
        <p:spPr>
          <a:xfrm>
            <a:off x="6453360" y="642960"/>
            <a:ext cx="1023840" cy="1170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Yoker 4"/>
          <p:cNvPicPr/>
          <p:nvPr/>
        </p:nvPicPr>
        <p:blipFill>
          <a:blip r:embed="rId4"/>
          <a:stretch/>
        </p:blipFill>
        <p:spPr>
          <a:xfrm>
            <a:off x="3452760" y="785880"/>
            <a:ext cx="1060560" cy="1060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Yoker 125th"/>
          <p:cNvPicPr/>
          <p:nvPr/>
        </p:nvPicPr>
        <p:blipFill>
          <a:blip r:embed="rId5"/>
          <a:stretch/>
        </p:blipFill>
        <p:spPr>
          <a:xfrm>
            <a:off x="4881600" y="714240"/>
            <a:ext cx="1071360" cy="1163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Yoker 1.JPG"/>
          <p:cNvPicPr/>
          <p:nvPr/>
        </p:nvPicPr>
        <p:blipFill>
          <a:blip r:embed="rId6"/>
          <a:stretch/>
        </p:blipFill>
        <p:spPr>
          <a:xfrm>
            <a:off x="380880" y="857160"/>
            <a:ext cx="1043280" cy="997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Yoker 2.JPG"/>
          <p:cNvPicPr/>
          <p:nvPr/>
        </p:nvPicPr>
        <p:blipFill>
          <a:blip r:embed="rId7"/>
          <a:stretch/>
        </p:blipFill>
        <p:spPr>
          <a:xfrm>
            <a:off x="1881360" y="714240"/>
            <a:ext cx="1042920" cy="1121040"/>
          </a:xfrm>
          <a:prstGeom prst="rect">
            <a:avLst/>
          </a:prstGeom>
          <a:ln w="0">
            <a:noFill/>
          </a:ln>
        </p:spPr>
      </p:pic>
      <p:sp>
        <p:nvSpPr>
          <p:cNvPr id="50" name="TextBox 12"/>
          <p:cNvSpPr/>
          <p:nvPr/>
        </p:nvSpPr>
        <p:spPr>
          <a:xfrm>
            <a:off x="0" y="3786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X.  PRESIDENTS  25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14:57:48Z</dcterms:created>
  <dc:creator>JY</dc:creator>
  <dc:description/>
  <dc:language>en-US</dc:language>
  <cp:lastModifiedBy>John</cp:lastModifiedBy>
  <dcterms:modified xsi:type="dcterms:W3CDTF">2008-09-02T20:35:23Z</dcterms:modified>
  <cp:revision>12</cp:revision>
  <dc:subject/>
  <dc:title>Slide 1</dc:title>
</cp:coreProperties>
</file>